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562"/>
                </a:solidFill>
                <a:latin typeface="Futura Medium"/>
              </a:rPr>
              <a:t>Click to move the slide</a:t>
            </a: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F465-2C0E-48ED-A0A5-2B213971F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D589-4558-4EFA-9375-C2CD4C299812}" type="datetime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D2C4-3DDA-48CE-917A-94689BE2F6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5C99-0818-4B82-A680-C21BF279BD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5C5A-DDCA-4223-9811-4B6D0C3E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DBDE-4676-4D2A-92F2-B716351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4375-4898-4635-BE23-4F0B31A45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9A9-F06F-4B59-8293-F54A0EAFD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99C-ED48-41CF-B622-3A5B62EB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898-4F08-40CE-A04C-71EEAFEF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D7C-120A-49CC-BCC2-14992E74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963-4E38-4BF0-A8CC-458DC287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BA9-C3F9-4410-B32C-4670AD17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4DA-1FAF-4508-8EC6-5A525D1F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4CE0-C845-45CE-BF4B-51C6D543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719-AF58-4965-A087-87655DB8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BFC-CC3F-427A-BDF5-9F78804B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AC6-A684-40D0-97AA-18998CAB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95C-0EA4-4ED4-9154-18C29661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BDE-1B89-441D-B706-8D30BF0C73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5D411-E224-49FE-94D9-1803A34F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E90CB-9C5A-4B5E-B4B9-7229FAE0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1083D-A3C4-49BE-BCE2-1F0D7243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F9DDF-1E58-4228-95F4-9F2E77A1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CE008-3C9C-460C-82B7-67F642A6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FD8A-08E6-420A-A969-7EF62503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A7DFF2-0D8E-4BC0-88D9-7554E5EE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1507F-65BE-4D15-A2AE-CB910B81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AA741-9847-45A3-B346-057E81B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5E4C4A-169C-414B-9796-3BB0F03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E543C-5D2E-4774-9CFE-AC8FFBD3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47F8B-00CA-4A8F-B13D-08F1E363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63B0F-7332-4573-AE0D-FE81F9DB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AF515-7404-4EDF-ADC8-46B5AD82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453B03-7C77-463F-947A-A0A882F6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C3BD7-D3D5-4AD9-8797-A4DD8F40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634F-56C1-4A6C-8CB4-B3259955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3DD7C-1645-451E-9EA4-6F28C0BD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8D2F0-684B-4C3C-8464-451C4AB5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D9E18-7279-40ED-99B9-783A0127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B10E8-74EB-4CC0-9DE6-887CE12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95A4D-C8F1-4DDE-81A2-6520A50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A03AD-BB97-4A0C-9224-94DB618F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3A10F-30CE-492A-A529-D5527AE9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8DE4A-FA47-41C1-A171-48D4C3D1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6ABA8-8CA8-47C5-BB13-A145F698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2608-5BCD-4984-9BC5-1D1F95BB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6803-70AC-41B0-B85A-E6EC3BF4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66400"/>
            <a:ext cx="264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031A-FDDE-4240-8249-B32991CE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B6C7-259C-437C-9F31-E46A4B37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C2F9-1406-4D33-BD3A-FA9D5EA8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10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10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10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gcube-logo-color-test-04.jpg"/>
          <p:cNvPicPr/>
          <p:nvPr/>
        </p:nvPicPr>
        <p:blipFill>
          <a:blip r:embed="rId2"/>
          <a:stretch/>
        </p:blipFill>
        <p:spPr>
          <a:xfrm>
            <a:off x="487440" y="700200"/>
            <a:ext cx="1957320" cy="8856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2"/>
          <p:cNvSpPr/>
          <p:nvPr/>
        </p:nvSpPr>
        <p:spPr>
          <a:xfrm>
            <a:off x="510552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Our Knowledge, Your 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5 turbines spining.jpg"/>
          <p:cNvPicPr/>
          <p:nvPr/>
        </p:nvPicPr>
        <p:blipFill>
          <a:blip r:embed="rId3"/>
          <a:srcRect l="1314" t="3345" r="3474" b="1448"/>
          <a:stretch/>
        </p:blipFill>
        <p:spPr>
          <a:xfrm>
            <a:off x="1682640" y="1693800"/>
            <a:ext cx="1603440" cy="1465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"/>
          <p:cNvPicPr/>
          <p:nvPr/>
        </p:nvPicPr>
        <p:blipFill>
          <a:blip r:embed="rId4"/>
          <a:srcRect l="0" t="-779" r="0" b="0"/>
          <a:stretch/>
        </p:blipFill>
        <p:spPr>
          <a:xfrm>
            <a:off x="-7920" y="1682640"/>
            <a:ext cx="1643040" cy="1479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4" descr=""/>
          <p:cNvPicPr/>
          <p:nvPr/>
        </p:nvPicPr>
        <p:blipFill>
          <a:blip r:embed="rId5"/>
          <a:srcRect l="0" t="0" r="1884" b="1332"/>
          <a:stretch/>
        </p:blipFill>
        <p:spPr>
          <a:xfrm>
            <a:off x="-7920" y="3214800"/>
            <a:ext cx="1641600" cy="1447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1200240" y="6339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02DA-C9FA-4A02-BF5E-A39BC07F40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2"/>
          </p:nvPr>
        </p:nvSpPr>
        <p:spPr>
          <a:xfrm>
            <a:off x="75960" y="6339960"/>
            <a:ext cx="1066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9C5-EE9C-41DB-8718-1CD6B42D003E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6"/>
          <a:srcRect l="1253" t="2638" r="2663" b="1269"/>
          <a:stretch/>
        </p:blipFill>
        <p:spPr>
          <a:xfrm>
            <a:off x="1679400" y="3214800"/>
            <a:ext cx="1609920" cy="14475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"/>
          <p:cNvPicPr/>
          <p:nvPr/>
        </p:nvPicPr>
        <p:blipFill>
          <a:blip r:embed="rId7"/>
          <a:stretch/>
        </p:blipFill>
        <p:spPr>
          <a:xfrm>
            <a:off x="3333600" y="1693800"/>
            <a:ext cx="5829480" cy="297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gcube-logo-color-test-05.jpg"/>
          <p:cNvPicPr/>
          <p:nvPr/>
        </p:nvPicPr>
        <p:blipFill>
          <a:blip r:embed="rId2"/>
          <a:stretch/>
        </p:blipFill>
        <p:spPr>
          <a:xfrm>
            <a:off x="7477200" y="6119640"/>
            <a:ext cx="1474560" cy="66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5 turbines spining.jpg"/>
          <p:cNvPicPr/>
          <p:nvPr/>
        </p:nvPicPr>
        <p:blipFill>
          <a:blip r:embed="rId3"/>
          <a:srcRect l="292" t="4091" r="5888" b="1328"/>
          <a:stretch/>
        </p:blipFill>
        <p:spPr>
          <a:xfrm>
            <a:off x="739800" y="0"/>
            <a:ext cx="695160" cy="63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711360" cy="64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"/>
          <p:cNvPicPr/>
          <p:nvPr/>
        </p:nvPicPr>
        <p:blipFill>
          <a:blip r:embed="rId5"/>
          <a:srcRect l="0" t="0" r="1884" b="1332"/>
          <a:stretch/>
        </p:blipFill>
        <p:spPr>
          <a:xfrm>
            <a:off x="0" y="663480"/>
            <a:ext cx="711360" cy="627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ldNum" idx="3"/>
          </p:nvPr>
        </p:nvSpPr>
        <p:spPr>
          <a:xfrm>
            <a:off x="2028600" y="6339960"/>
            <a:ext cx="173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4A85-534A-477D-B344-894F4E03E4F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6"/>
          <a:stretch/>
        </p:blipFill>
        <p:spPr>
          <a:xfrm>
            <a:off x="1463760" y="-4680"/>
            <a:ext cx="7688160" cy="129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7"/>
          <a:stretch/>
        </p:blipFill>
        <p:spPr>
          <a:xfrm>
            <a:off x="736560" y="666720"/>
            <a:ext cx="704880" cy="6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5960" y="6339960"/>
            <a:ext cx="1066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C89D-0697-4CDC-9C1B-9A9939921F8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gcube-logo-color-test-04.jpg"/>
          <p:cNvPicPr/>
          <p:nvPr/>
        </p:nvPicPr>
        <p:blipFill>
          <a:blip r:embed="rId2"/>
          <a:stretch/>
        </p:blipFill>
        <p:spPr>
          <a:xfrm>
            <a:off x="487440" y="700200"/>
            <a:ext cx="1957320" cy="885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510552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Our Knowledge, Your 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5 turbines spining.jpg"/>
          <p:cNvPicPr/>
          <p:nvPr/>
        </p:nvPicPr>
        <p:blipFill>
          <a:blip r:embed="rId3"/>
          <a:srcRect l="1314" t="3345" r="3474" b="1448"/>
          <a:stretch/>
        </p:blipFill>
        <p:spPr>
          <a:xfrm>
            <a:off x="1682640" y="1693800"/>
            <a:ext cx="160344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4"/>
          <a:srcRect l="0" t="-779" r="0" b="0"/>
          <a:stretch/>
        </p:blipFill>
        <p:spPr>
          <a:xfrm>
            <a:off x="-7920" y="1682640"/>
            <a:ext cx="1643040" cy="1479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"/>
          <p:cNvPicPr/>
          <p:nvPr/>
        </p:nvPicPr>
        <p:blipFill>
          <a:blip r:embed="rId5"/>
          <a:srcRect l="0" t="0" r="1884" b="1332"/>
          <a:stretch/>
        </p:blipFill>
        <p:spPr>
          <a:xfrm>
            <a:off x="-7920" y="3214800"/>
            <a:ext cx="1641600" cy="144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6"/>
          <a:srcRect l="1253" t="2638" r="2663" b="1269"/>
          <a:stretch/>
        </p:blipFill>
        <p:spPr>
          <a:xfrm>
            <a:off x="1679400" y="3214800"/>
            <a:ext cx="1609920" cy="144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7"/>
          <a:stretch/>
        </p:blipFill>
        <p:spPr>
          <a:xfrm>
            <a:off x="3333600" y="1693800"/>
            <a:ext cx="5829480" cy="2971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dt" idx="5"/>
          </p:nvPr>
        </p:nvSpPr>
        <p:spPr>
          <a:xfrm>
            <a:off x="75960" y="6339960"/>
            <a:ext cx="1066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CC54-3B27-4906-A88C-062D6417864C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7"/>
          </p:nvPr>
        </p:nvSpPr>
        <p:spPr>
          <a:xfrm>
            <a:off x="1200240" y="6339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76DF-28BA-4224-A01A-6247D66F249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gcube-logo-color-test-05.jpg"/>
          <p:cNvPicPr/>
          <p:nvPr/>
        </p:nvPicPr>
        <p:blipFill>
          <a:blip r:embed="rId2"/>
          <a:stretch/>
        </p:blipFill>
        <p:spPr>
          <a:xfrm>
            <a:off x="7477200" y="6119640"/>
            <a:ext cx="1474560" cy="6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5 turbines spining.jpg"/>
          <p:cNvPicPr/>
          <p:nvPr/>
        </p:nvPicPr>
        <p:blipFill>
          <a:blip r:embed="rId3"/>
          <a:srcRect l="292" t="4091" r="5888" b="1328"/>
          <a:stretch/>
        </p:blipFill>
        <p:spPr>
          <a:xfrm>
            <a:off x="739800" y="0"/>
            <a:ext cx="695160" cy="63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711360" cy="641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"/>
          <p:cNvPicPr/>
          <p:nvPr/>
        </p:nvPicPr>
        <p:blipFill>
          <a:blip r:embed="rId5"/>
          <a:srcRect l="0" t="0" r="1884" b="1332"/>
          <a:stretch/>
        </p:blipFill>
        <p:spPr>
          <a:xfrm>
            <a:off x="0" y="66348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6"/>
          <a:stretch/>
        </p:blipFill>
        <p:spPr>
          <a:xfrm>
            <a:off x="1463760" y="-4680"/>
            <a:ext cx="7688160" cy="1292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"/>
          <p:cNvPicPr/>
          <p:nvPr/>
        </p:nvPicPr>
        <p:blipFill>
          <a:blip r:embed="rId7"/>
          <a:stretch/>
        </p:blipFill>
        <p:spPr>
          <a:xfrm>
            <a:off x="736560" y="666720"/>
            <a:ext cx="704880" cy="633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8"/>
          </p:nvPr>
        </p:nvSpPr>
        <p:spPr>
          <a:xfrm>
            <a:off x="75960" y="6339960"/>
            <a:ext cx="1066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C0C6-F6ED-468E-9DB8-5219102074AA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0"/>
          </p:nvPr>
        </p:nvSpPr>
        <p:spPr>
          <a:xfrm>
            <a:off x="2028600" y="6339960"/>
            <a:ext cx="173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9E3C-4A2E-40A6-B90E-1468C2236B1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gcube-logo-color-test-05.jpg"/>
          <p:cNvPicPr/>
          <p:nvPr/>
        </p:nvPicPr>
        <p:blipFill>
          <a:blip r:embed="rId2"/>
          <a:stretch/>
        </p:blipFill>
        <p:spPr>
          <a:xfrm>
            <a:off x="7477200" y="6119640"/>
            <a:ext cx="1474560" cy="667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5 turbines spining.jpg"/>
          <p:cNvPicPr/>
          <p:nvPr/>
        </p:nvPicPr>
        <p:blipFill>
          <a:blip r:embed="rId3"/>
          <a:srcRect l="292" t="4091" r="5888" b="1328"/>
          <a:stretch/>
        </p:blipFill>
        <p:spPr>
          <a:xfrm>
            <a:off x="739800" y="0"/>
            <a:ext cx="695160" cy="639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711360" cy="641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4" descr=""/>
          <p:cNvPicPr/>
          <p:nvPr/>
        </p:nvPicPr>
        <p:blipFill>
          <a:blip r:embed="rId5"/>
          <a:srcRect l="0" t="0" r="1884" b="1332"/>
          <a:stretch/>
        </p:blipFill>
        <p:spPr>
          <a:xfrm>
            <a:off x="0" y="66348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6"/>
          <a:stretch/>
        </p:blipFill>
        <p:spPr>
          <a:xfrm>
            <a:off x="1463760" y="-4680"/>
            <a:ext cx="7688160" cy="1292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"/>
          <p:cNvPicPr/>
          <p:nvPr/>
        </p:nvPicPr>
        <p:blipFill>
          <a:blip r:embed="rId7"/>
          <a:stretch/>
        </p:blipFill>
        <p:spPr>
          <a:xfrm>
            <a:off x="736560" y="666720"/>
            <a:ext cx="704880" cy="633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562"/>
                </a:solidFill>
                <a:latin typeface="Futura Medium"/>
              </a:rPr>
              <a:t>Click to edit the title text format</a:t>
            </a:r>
            <a:endParaRPr b="0" lang="en-US" sz="3600" spc="-1" strike="noStrike">
              <a:solidFill>
                <a:srgbClr val="0a4562"/>
              </a:solidFill>
              <a:latin typeface="Futura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71400" y="2133360"/>
            <a:ext cx="57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edium"/>
              </a:rPr>
              <a:t>GCube Underwriting Ltd</a:t>
            </a:r>
            <a:br>
              <a:rPr sz="2800"/>
            </a:br>
            <a:endParaRPr b="0" lang="en-US" sz="28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886200" y="4646160"/>
            <a:ext cx="495936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BC Conference, Cairo,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ay 2015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676520" y="5705640"/>
            <a:ext cx="708660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417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Cube Int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ent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Risk Expo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nd and solar prospects in Egy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3480" y="326520"/>
            <a:ext cx="73580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Agenda</a:t>
            </a:r>
            <a:endParaRPr b="0" lang="en-US" sz="24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2028960" y="6340320"/>
            <a:ext cx="17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6FB9-65F7-4887-8F79-F585EECD07F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9" descr="images"/>
          <p:cNvPicPr/>
          <p:nvPr/>
        </p:nvPicPr>
        <p:blipFill>
          <a:blip r:embed="rId1"/>
          <a:stretch/>
        </p:blipFill>
        <p:spPr>
          <a:xfrm>
            <a:off x="5638680" y="1828800"/>
            <a:ext cx="28800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417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An Underwriting Agency (MG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Focus solely on renewables for the last 20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Underwriting capital provided by 18 Lloyd’s syndicates (89.5%), Swiss Re (7.5%) and Munich Re (3%) (S&amp;P A+ rat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EUR 500,000,000 capa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Global underwriting autho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Direct or reinsu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50,000 MW written to 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Significant experience in Af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GothicM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63480" y="326520"/>
            <a:ext cx="73580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Who are GCube?</a:t>
            </a:r>
            <a:endParaRPr b="0" lang="en-US" sz="24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2028960" y="6340320"/>
            <a:ext cx="17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0564-C032-4BD1-8305-6E541D62BBB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ate Placeholder 4"/>
          <p:cNvSpPr/>
          <p:nvPr/>
        </p:nvSpPr>
        <p:spPr>
          <a:xfrm>
            <a:off x="76320" y="6340320"/>
            <a:ext cx="1066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walter-rawlings-lloyds-of-london-architect-richard-rogers-city-of-london-london-england-united-kingdom"/>
          <p:cNvPicPr/>
          <p:nvPr/>
        </p:nvPicPr>
        <p:blipFill>
          <a:blip r:embed="rId1"/>
          <a:stretch/>
        </p:blipFill>
        <p:spPr>
          <a:xfrm>
            <a:off x="5486400" y="3581280"/>
            <a:ext cx="32194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720" y="304560"/>
            <a:ext cx="77774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a4562"/>
                </a:solidFill>
                <a:latin typeface="Futura Medium"/>
              </a:rPr>
              <a:t>        </a:t>
            </a:r>
            <a:r>
              <a:rPr b="0" lang="en-GB" sz="2400" spc="-1" strike="noStrike">
                <a:solidFill>
                  <a:srgbClr val="002060"/>
                </a:solidFill>
                <a:latin typeface="Futura Medium"/>
              </a:rPr>
              <a:t>Key GCube Highlights</a:t>
            </a:r>
            <a:endParaRPr b="0" lang="en-US" sz="24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983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orth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0% of the wind business in Morocco (Nareva, EDF, International Pow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entral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inangop Wind Farm (Kenya, 60M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outh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ver 1,000MW of wind and solar energy in rounds 1, 2, and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st wind farm in Europe (Fantanele, Romania, 600M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 CSP accounts Abengoa and Accio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st wind portfolios in Portugal (Iberwind and EDP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United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largest solar account in the world (SunEdis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3 largest solar UK PV developers  (Lightsource, Low Carbon Solar, Hazel Capital – 1.5G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\\UK.Group.Local\data\RI-JLT-UK-London_RD\jfg\Desktop\Fotolia_9027988_Ground_Mtd_Solar-Copy.jpg"/>
          <p:cNvPicPr/>
          <p:nvPr/>
        </p:nvPicPr>
        <p:blipFill>
          <a:blip r:embed="rId1"/>
          <a:stretch/>
        </p:blipFill>
        <p:spPr>
          <a:xfrm>
            <a:off x="5791320" y="3733920"/>
            <a:ext cx="30193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87080" y="380880"/>
            <a:ext cx="77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Futura Medium"/>
              </a:rPr>
              <a:t>Key Underwriting Exposures (Solar Energy)</a:t>
            </a:r>
            <a:endParaRPr b="0" lang="en-US" sz="24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059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ors: 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es; Dependencies on bespoke items; Contingencies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ck record; Local content requirements; In-house/exter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ert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: 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itable fence, CCTV, cables buried, security company reputable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ti-theft bol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cessibility to site, remoteness of lo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ology:        Prototypical aspects; Reliability; QC/QA of compone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arts;  Long lead items e.g. substation transformer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vailability of spares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connection: Long Transmission &amp; Distribution lines, Contingent Busin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ruption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87080" y="380880"/>
            <a:ext cx="77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Futura Medium"/>
              </a:rPr>
              <a:t>Key Underwriting Exposures (Wind Energy)</a:t>
            </a:r>
            <a:endParaRPr b="0" lang="en-US" sz="24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059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ors: 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es; Dependencies on bespoke items; Contingencies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ck record; Local content requirements; In-house/exter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ertise.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ology:        Prototypical aspects; Reliability; QC/QA of compone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arts;  Long lead items e.g. substation transformer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vailability of spa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cessibility to site, remoteness of lo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connection: Long Transmission &amp; Distribution lines, Contingent Busin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ruption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87080" y="380880"/>
            <a:ext cx="77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Futura Medium"/>
              </a:rPr>
              <a:t>Example Prospects in Egypt</a:t>
            </a:r>
            <a:endParaRPr b="0" lang="en-US" sz="2400" spc="-1" strike="noStrike">
              <a:solidFill>
                <a:srgbClr val="0a4562"/>
              </a:solidFill>
              <a:latin typeface="Futura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059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&amp; Renewable Energy Authority (NREA)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 building a 220MW wind farm on the Red Sea coast in Al-Zayt Gulf, worth USD330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RE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s signed seven binding Memorandum of Understandings for solar and wind power projects totalling USD500mn under its Feed-in-Tariff (FI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ascom Construction and Saudi firm Alfanar are each developing one 50MW solar project and one 50MW wind proje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Power MEA from the UAE is setting up a 50MW solar plant, while local firms Sun Infin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ila Al Tawakol Electrical are contributing 50MW and 20MW respective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 Sewedy Electric Compan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 building 6 x 100MW wind farms worth USD1bn situated on the Red Sea coast in Al-Zayt Gu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frican Ban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Target of 7,200MW of renewable energy investment in Egypt. First project is a USD400m wind fa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o conclude, there are 7,000MW of wind and solar assets in the development stage, with a potential insured value of USD10.5bn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0"/>
          <p:cNvSpPr/>
          <p:nvPr/>
        </p:nvSpPr>
        <p:spPr>
          <a:xfrm>
            <a:off x="1714680" y="1700280"/>
            <a:ext cx="52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471ff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1471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2060"/>
                </a:solidFill>
                <a:latin typeface="Arial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0" descr="GCube-WindPro-300-1"/>
          <p:cNvPicPr/>
          <p:nvPr/>
        </p:nvPicPr>
        <p:blipFill>
          <a:blip r:embed="rId1"/>
          <a:stretch/>
        </p:blipFill>
        <p:spPr>
          <a:xfrm>
            <a:off x="3817800" y="3200400"/>
            <a:ext cx="1508400" cy="638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GCube-SolarPro-300-1"/>
          <p:cNvPicPr/>
          <p:nvPr/>
        </p:nvPicPr>
        <p:blipFill>
          <a:blip r:embed="rId2"/>
          <a:stretch/>
        </p:blipFill>
        <p:spPr>
          <a:xfrm>
            <a:off x="568440" y="3305160"/>
            <a:ext cx="1434960" cy="609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GCube-BioPro-300-1"/>
          <p:cNvPicPr/>
          <p:nvPr/>
        </p:nvPicPr>
        <p:blipFill>
          <a:blip r:embed="rId3"/>
          <a:stretch/>
        </p:blipFill>
        <p:spPr>
          <a:xfrm>
            <a:off x="7034040" y="3305160"/>
            <a:ext cx="1416240" cy="581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GCube-HydroPro-300-1"/>
          <p:cNvPicPr/>
          <p:nvPr/>
        </p:nvPicPr>
        <p:blipFill>
          <a:blip r:embed="rId4"/>
          <a:stretch/>
        </p:blipFill>
        <p:spPr>
          <a:xfrm>
            <a:off x="2057400" y="4495680"/>
            <a:ext cx="1371600" cy="582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GCube-WavePro-300-1"/>
          <p:cNvPicPr/>
          <p:nvPr/>
        </p:nvPicPr>
        <p:blipFill>
          <a:blip r:embed="rId5"/>
          <a:stretch/>
        </p:blipFill>
        <p:spPr>
          <a:xfrm>
            <a:off x="5562720" y="4572000"/>
            <a:ext cx="129528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9:44:54Z</dcterms:created>
  <dc:creator>Fujitsu</dc:creator>
  <dc:description/>
  <dc:language>en-US</dc:language>
  <cp:lastModifiedBy>Fleming, Jamie - GBR770223</cp:lastModifiedBy>
  <cp:lastPrinted>2014-01-29T17:30:07Z</cp:lastPrinted>
  <dcterms:modified xsi:type="dcterms:W3CDTF">2015-05-13T15:34:22Z</dcterms:modified>
  <cp:revision>91</cp:revision>
  <dc:subject/>
  <dc:title>GCube Overview</dc:title>
</cp:coreProperties>
</file>